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2C3-2CC0-4026-830D-BFD101A33688}" type="datetime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5E5C-071E-4C0A-829F-5029E08479B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s should be 3-7 minutes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3EA0-AEC6-43C5-8FDB-581A1EF846C6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71320" y="584280"/>
            <a:ext cx="118616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2880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288000" indent="-28800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88000" indent="-28800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8000" indent="-28800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8000" indent="-28800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3" name="Picture 4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1" name="Line 2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1998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9500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2836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16208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495440" indent="-199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495440" indent="-1998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274320" indent="-27432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274320" indent="-27432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274320" indent="-27432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274320" indent="-2743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43" name="Picture 5" descr="Logo300dpi %281%29.png"/>
          <p:cNvPicPr/>
          <p:nvPr/>
        </p:nvPicPr>
        <p:blipFill>
          <a:blip r:embed="rId2"/>
          <a:stretch/>
        </p:blipFill>
        <p:spPr>
          <a:xfrm>
            <a:off x="10083960" y="380880"/>
            <a:ext cx="228600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78120" y="299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elvetica Neue Light"/>
              </a:rPr>
              <a:t>Module Template</a:t>
            </a: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: Subtitle; Version 1.0, Reviewed 9/15/11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0" name="Line 2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8" name="Line 2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6" name="Line 2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22932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67720" indent="-2289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004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3236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14680" indent="-2293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14680" indent="-2293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2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1320" y="1346040"/>
            <a:ext cx="118616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</a:rPr>
              <a:t>Preservation Strategie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Data transfer &amp; submission agreements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8392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onald Weav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National Snow and Ice Data Center</a:t>
            </a: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tretch/>
        </p:blipFill>
        <p:spPr>
          <a:xfrm>
            <a:off x="635040" y="7924680"/>
            <a:ext cx="1270080" cy="1397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2"/>
          <a:stretch/>
        </p:blipFill>
        <p:spPr>
          <a:xfrm>
            <a:off x="2311560" y="77724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"/>
          <p:cNvSpPr/>
          <p:nvPr/>
        </p:nvSpPr>
        <p:spPr>
          <a:xfrm>
            <a:off x="6654960" y="4952880"/>
            <a:ext cx="59180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Helvetica Neue"/>
              </a:rPr>
              <a:t>Review Dat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verview - Importanc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 </a:t>
            </a: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A major part of the data preservation process is establishing provenance as well as safe preservation of the actual data bi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Data transfer/submission agreements are an important link in the provenance and documentation chai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Data Transfer Agreements</a:t>
            </a: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Each Long Term Archive (LTA) has its own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It is important that the data provider contact the LTA to understand the ingest proces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s initial contact typically includes development of a transfer agreement which outlines the responsibilities of each party (LTA and provider) in the transaction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veral websites offer links to more general data management plan development.  We suggest starting with the following: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http://esip.esipfed.org/resource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igital Curation Centre Plans (Useful checklist for developing a data management plan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dcc.ac.uk/resources/data-management-plans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University of California Curation Center (Data Planning Checklist) </a:t>
            </a:r>
            <a:r>
              <a:rPr b="0" lang="en-US" sz="2000" spc="-1" strike="noStrike" u="sng">
                <a:solidFill>
                  <a:srgbClr val="606060"/>
                </a:solidFill>
                <a:uFillTx/>
                <a:latin typeface="Helvetica Neue"/>
              </a:rPr>
              <a:t>http://www.cdlib.org/services/uc3/datamanagement/index.html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Helvetica Neue"/>
              </a:rPr>
              <a:t>Data Management and Publishing (MIT) http://libraries.mit.edu/guides/subjects/data-management/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ata Management and Publishing (Univ of Minnesota)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ttp://www.lib.umn.edu/datamanagement/funding#What1</a:t>
            </a:r>
            <a:endParaRPr b="0" lang="en-US" sz="20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Common internet search term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ata management plan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arth science data management”</a:t>
            </a: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xamples of transfer agreements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6060"/>
              </a:solidFill>
              <a:latin typeface="Helvetica Neue"/>
            </a:endParaRPr>
          </a:p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e also “Submission Agreements under For Data Managers”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584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Light"/>
              </a:rPr>
              <a:t>Other Relevant Module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6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List modules that are related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2:31:13Z</dcterms:created>
  <dc:creator/>
  <dc:description/>
  <cp:keywords/>
  <dc:language>en-US</dc:language>
  <cp:lastModifiedBy>Ron Weaver</cp:lastModifiedBy>
  <dcterms:modified xsi:type="dcterms:W3CDTF">2012-02-26T16:01:12Z</dcterms:modified>
  <cp:revision>40</cp:revision>
  <dc:subject/>
  <dc:title>ESIP Federation 101</dc:title>
</cp:coreProperties>
</file>